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611-29D8-442E-9896-135288A9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1FE-699F-4A88-94B5-8354AF3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E3D-CFC7-47A2-B5AA-301B098B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E8F-D47E-4988-AAA5-882C7F9F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D3A-D90C-4843-9837-4B8EB9ED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0B5-44A3-499A-9CD7-D94BAA4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5EB-8240-401F-AB7B-2C95D12A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825-AA41-4F41-B663-644257DA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025-3A47-4896-95B9-B23CA8A0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6D9-904A-4224-8815-BC15B75C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C2F-C673-4440-B81D-D573D08C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864-B64F-41B1-9184-8CD8AC2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E24-B68F-402D-865E-97A17E33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1844640"/>
            <a:ext cx="4968720" cy="345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994040"/>
            <a:ext cx="4681440" cy="315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27280" y="2133720"/>
            <a:ext cx="2015640" cy="1224000"/>
            <a:chOff x="2627280" y="2133720"/>
            <a:chExt cx="2015640" cy="1224000"/>
          </a:xfrm>
        </p:grpSpPr>
        <p:sp>
          <p:nvSpPr>
            <p:cNvPr id="44" name=""/>
            <p:cNvSpPr/>
            <p:nvPr/>
          </p:nvSpPr>
          <p:spPr>
            <a:xfrm>
              <a:off x="2627280" y="213372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7280" y="213372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textFrom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7280" y="242244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27280" y="2422440"/>
              <a:ext cx="201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at is today’s weather?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003640" y="2133720"/>
            <a:ext cx="2016000" cy="1224000"/>
            <a:chOff x="5003640" y="2133720"/>
            <a:chExt cx="2016000" cy="1224000"/>
          </a:xfrm>
        </p:grpSpPr>
        <p:sp>
          <p:nvSpPr>
            <p:cNvPr id="49" name=""/>
            <p:cNvSpPr/>
            <p:nvPr/>
          </p:nvSpPr>
          <p:spPr>
            <a:xfrm>
              <a:off x="5003640" y="213372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2133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textFor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3640" y="24224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03640" y="2422440"/>
              <a:ext cx="201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tteranc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 is 26 degrees and sunny.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627280" y="3573360"/>
            <a:ext cx="2015640" cy="1224000"/>
            <a:chOff x="2627280" y="3573360"/>
            <a:chExt cx="2015640" cy="1224000"/>
          </a:xfrm>
        </p:grpSpPr>
        <p:sp>
          <p:nvSpPr>
            <p:cNvPr id="54" name=""/>
            <p:cNvSpPr/>
            <p:nvPr/>
          </p:nvSpPr>
          <p:spPr>
            <a:xfrm>
              <a:off x="2627280" y="3573360"/>
              <a:ext cx="201564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27280" y="3573360"/>
              <a:ext cx="20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get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386208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27280" y="38620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003640" y="3573360"/>
            <a:ext cx="2016000" cy="1224000"/>
            <a:chOff x="5003640" y="3573360"/>
            <a:chExt cx="2016000" cy="1224000"/>
          </a:xfrm>
        </p:grpSpPr>
        <p:sp>
          <p:nvSpPr>
            <p:cNvPr id="59" name=""/>
            <p:cNvSpPr/>
            <p:nvPr/>
          </p:nvSpPr>
          <p:spPr>
            <a:xfrm>
              <a:off x="5003640" y="3573360"/>
              <a:ext cx="2016000" cy="122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3640" y="357336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weather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3640" y="3862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3862080"/>
              <a:ext cx="201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72720" y="782640"/>
            <a:ext cx="1648440" cy="992520"/>
            <a:chOff x="2772720" y="782640"/>
            <a:chExt cx="1648440" cy="9925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 flipH="1">
              <a:off x="3308040" y="782640"/>
              <a:ext cx="5763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72720" y="1316160"/>
              <a:ext cx="164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Recog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47280" y="716040"/>
            <a:ext cx="1489680" cy="1057320"/>
            <a:chOff x="5147280" y="716040"/>
            <a:chExt cx="1489680" cy="105732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 flipH="1">
              <a:off x="5443560" y="716040"/>
              <a:ext cx="89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147280" y="1314360"/>
              <a:ext cx="148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ech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28360" y="5408640"/>
            <a:ext cx="782640" cy="1117800"/>
            <a:chOff x="4428360" y="5408640"/>
            <a:chExt cx="782640" cy="1117800"/>
          </a:xfrm>
        </p:grpSpPr>
        <p:pic>
          <p:nvPicPr>
            <p:cNvPr id="70" name="" descr=""/>
            <p:cNvPicPr/>
            <p:nvPr/>
          </p:nvPicPr>
          <p:blipFill>
            <a:blip r:embed="rId4"/>
            <a:stretch/>
          </p:blipFill>
          <p:spPr>
            <a:xfrm>
              <a:off x="4500720" y="5408640"/>
              <a:ext cx="639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428360" y="606744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a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900720" y="3200400"/>
            <a:ext cx="1469880" cy="951120"/>
            <a:chOff x="900720" y="3200400"/>
            <a:chExt cx="1469880" cy="95112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1239840" y="3200400"/>
              <a:ext cx="781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00720" y="3692520"/>
              <a:ext cx="146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tural Langu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35280" y="1714680"/>
            <a:ext cx="0" cy="419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1720440"/>
            <a:ext cx="0" cy="412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0560" y="2781360"/>
            <a:ext cx="576360" cy="3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933720"/>
            <a:ext cx="576360" cy="358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797360"/>
            <a:ext cx="863640" cy="79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219640" y="4797000"/>
            <a:ext cx="79236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50920" y="3573360"/>
            <a:ext cx="2952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0920" y="335772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635280" y="2421000"/>
            <a:ext cx="865440" cy="431640"/>
            <a:chOff x="3635280" y="2421000"/>
            <a:chExt cx="865440" cy="431640"/>
          </a:xfrm>
        </p:grpSpPr>
        <p:sp>
          <p:nvSpPr>
            <p:cNvPr id="84" name=""/>
            <p:cNvSpPr/>
            <p:nvPr/>
          </p:nvSpPr>
          <p:spPr>
            <a:xfrm>
              <a:off x="3635280" y="2421000"/>
              <a:ext cx="86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35280" y="2498760"/>
              <a:ext cx="86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11640" y="3141720"/>
            <a:ext cx="865080" cy="431640"/>
            <a:chOff x="4211640" y="3141720"/>
            <a:chExt cx="865080" cy="431640"/>
          </a:xfrm>
        </p:grpSpPr>
        <p:sp>
          <p:nvSpPr>
            <p:cNvPr id="87" name=""/>
            <p:cNvSpPr/>
            <p:nvPr/>
          </p:nvSpPr>
          <p:spPr>
            <a:xfrm>
              <a:off x="421164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164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59280" y="3141720"/>
            <a:ext cx="865080" cy="431640"/>
            <a:chOff x="3059280" y="3141720"/>
            <a:chExt cx="865080" cy="431640"/>
          </a:xfrm>
        </p:grpSpPr>
        <p:sp>
          <p:nvSpPr>
            <p:cNvPr id="90" name=""/>
            <p:cNvSpPr/>
            <p:nvPr/>
          </p:nvSpPr>
          <p:spPr>
            <a:xfrm>
              <a:off x="3059280" y="3141720"/>
              <a:ext cx="865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321948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5280" y="3860640"/>
            <a:ext cx="865440" cy="459000"/>
            <a:chOff x="3635280" y="3860640"/>
            <a:chExt cx="865440" cy="459000"/>
          </a:xfrm>
        </p:grpSpPr>
        <p:sp>
          <p:nvSpPr>
            <p:cNvPr id="93" name=""/>
            <p:cNvSpPr/>
            <p:nvPr/>
          </p:nvSpPr>
          <p:spPr>
            <a:xfrm>
              <a:off x="3635280" y="3871800"/>
              <a:ext cx="8654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5280" y="3860640"/>
              <a:ext cx="86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and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492360" y="2852280"/>
            <a:ext cx="5749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067280" y="2852280"/>
            <a:ext cx="5760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92000" y="3573360"/>
            <a:ext cx="5749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67280" y="3573360"/>
            <a:ext cx="576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7:39Z</dcterms:created>
  <dc:creator>Matthew McGill</dc:creator>
  <dc:description/>
  <dc:language>en-US</dc:language>
  <cp:lastModifiedBy>Matthew McGill</cp:lastModifiedBy>
  <dcterms:modified xsi:type="dcterms:W3CDTF">2007-01-23T06:07:34Z</dcterms:modified>
  <cp:revision>3</cp:revision>
  <dc:subject/>
  <dc:title>Slide 1</dc:title>
</cp:coreProperties>
</file>