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1599-EE93-4B7A-A959-51B8C3AC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DBA0-7A5C-4D00-9512-1DD24F7F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114A-5227-4285-84E5-6E4E907C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1488-4887-45E6-8AF1-419DF7A7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19DD-F44B-471C-A24E-1509FD90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8B1F-E84A-4F76-9E37-5F75000B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D93-ADCA-4D3D-82BB-6A5C1D59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20A-EDDB-4412-B732-E1165EBD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A34C-D6AA-4662-84C3-F86F92A5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6D6-A6D3-4528-9B99-B595F69D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DE2D-932B-4F42-9054-BCE82C74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5EB4-24B8-48B1-89A5-0C33730B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1CD8-AC98-4BED-AD19-45C19B80A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000" y="1844640"/>
            <a:ext cx="4968720" cy="345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84360" y="1994040"/>
            <a:ext cx="4681440" cy="3155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627280" y="2133720"/>
            <a:ext cx="2015640" cy="1224000"/>
            <a:chOff x="2627280" y="2133720"/>
            <a:chExt cx="2015640" cy="1224000"/>
          </a:xfrm>
        </p:grpSpPr>
        <p:sp>
          <p:nvSpPr>
            <p:cNvPr id="44" name=""/>
            <p:cNvSpPr/>
            <p:nvPr/>
          </p:nvSpPr>
          <p:spPr>
            <a:xfrm>
              <a:off x="2627280" y="2133720"/>
              <a:ext cx="2015640" cy="122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27280" y="2133720"/>
              <a:ext cx="201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: textFrom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27280" y="2422440"/>
              <a:ext cx="20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27280" y="2422440"/>
              <a:ext cx="2015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tteranc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hat is today’s weather?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003640" y="2133720"/>
            <a:ext cx="2016000" cy="1224000"/>
            <a:chOff x="5003640" y="2133720"/>
            <a:chExt cx="2016000" cy="1224000"/>
          </a:xfrm>
        </p:grpSpPr>
        <p:sp>
          <p:nvSpPr>
            <p:cNvPr id="49" name=""/>
            <p:cNvSpPr/>
            <p:nvPr/>
          </p:nvSpPr>
          <p:spPr>
            <a:xfrm>
              <a:off x="5003640" y="2133720"/>
              <a:ext cx="2016000" cy="122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03640" y="2133720"/>
              <a:ext cx="20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: textFor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03640" y="242244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03640" y="2422440"/>
              <a:ext cx="2016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tteranc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t is 26 degrees and sunny.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627280" y="3573360"/>
            <a:ext cx="2015640" cy="1224000"/>
            <a:chOff x="2627280" y="3573360"/>
            <a:chExt cx="2015640" cy="1224000"/>
          </a:xfrm>
        </p:grpSpPr>
        <p:sp>
          <p:nvSpPr>
            <p:cNvPr id="54" name=""/>
            <p:cNvSpPr/>
            <p:nvPr/>
          </p:nvSpPr>
          <p:spPr>
            <a:xfrm>
              <a:off x="2627280" y="3573360"/>
              <a:ext cx="2015640" cy="122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27280" y="3573360"/>
              <a:ext cx="201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: getWeatherInf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27280" y="3862080"/>
              <a:ext cx="20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27280" y="3862080"/>
              <a:ext cx="201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d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003640" y="3573360"/>
            <a:ext cx="2016000" cy="1224000"/>
            <a:chOff x="5003640" y="3573360"/>
            <a:chExt cx="2016000" cy="1224000"/>
          </a:xfrm>
        </p:grpSpPr>
        <p:sp>
          <p:nvSpPr>
            <p:cNvPr id="59" name=""/>
            <p:cNvSpPr/>
            <p:nvPr/>
          </p:nvSpPr>
          <p:spPr>
            <a:xfrm>
              <a:off x="5003640" y="3573360"/>
              <a:ext cx="2016000" cy="122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03640" y="3573360"/>
              <a:ext cx="20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: weatherInf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03640" y="386208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3862080"/>
              <a:ext cx="201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di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n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772720" y="782640"/>
            <a:ext cx="1648440" cy="992520"/>
            <a:chOff x="2772720" y="782640"/>
            <a:chExt cx="1648440" cy="99252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 flipH="1">
              <a:off x="3308040" y="782640"/>
              <a:ext cx="5763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72720" y="1316160"/>
              <a:ext cx="1648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ech Recogn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147280" y="716040"/>
            <a:ext cx="1489680" cy="1057320"/>
            <a:chOff x="5147280" y="716040"/>
            <a:chExt cx="1489680" cy="1057320"/>
          </a:xfrm>
        </p:grpSpPr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 flipH="1">
              <a:off x="5443560" y="716040"/>
              <a:ext cx="8953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147280" y="1314360"/>
              <a:ext cx="1489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ech Synthe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428360" y="5408640"/>
            <a:ext cx="782640" cy="1117800"/>
            <a:chOff x="4428360" y="5408640"/>
            <a:chExt cx="782640" cy="1117800"/>
          </a:xfrm>
        </p:grpSpPr>
        <p:pic>
          <p:nvPicPr>
            <p:cNvPr id="70" name="" descr=""/>
            <p:cNvPicPr/>
            <p:nvPr/>
          </p:nvPicPr>
          <p:blipFill>
            <a:blip r:embed="rId4"/>
            <a:stretch/>
          </p:blipFill>
          <p:spPr>
            <a:xfrm>
              <a:off x="4500720" y="5408640"/>
              <a:ext cx="6397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428360" y="6067440"/>
              <a:ext cx="78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at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900720" y="3200400"/>
            <a:ext cx="1469880" cy="951120"/>
            <a:chOff x="900720" y="3200400"/>
            <a:chExt cx="1469880" cy="951120"/>
          </a:xfrm>
        </p:grpSpPr>
        <p:pic>
          <p:nvPicPr>
            <p:cNvPr id="73" name="" descr=""/>
            <p:cNvPicPr/>
            <p:nvPr/>
          </p:nvPicPr>
          <p:blipFill>
            <a:blip r:embed="rId5"/>
            <a:stretch/>
          </p:blipFill>
          <p:spPr>
            <a:xfrm>
              <a:off x="1239840" y="3200400"/>
              <a:ext cx="781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900720" y="3692520"/>
              <a:ext cx="1469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tural Langu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635280" y="1714680"/>
            <a:ext cx="0" cy="419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940360" y="1720440"/>
            <a:ext cx="0" cy="41292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050560" y="2781360"/>
            <a:ext cx="576360" cy="360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0920" y="3933720"/>
            <a:ext cx="576360" cy="358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64000" y="4797360"/>
            <a:ext cx="863640" cy="792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219640" y="4797000"/>
            <a:ext cx="792360" cy="792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050920" y="3573360"/>
            <a:ext cx="29527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0920" y="3357720"/>
            <a:ext cx="2952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635280" y="2421000"/>
            <a:ext cx="865440" cy="431640"/>
            <a:chOff x="3635280" y="2421000"/>
            <a:chExt cx="865440" cy="431640"/>
          </a:xfrm>
        </p:grpSpPr>
        <p:sp>
          <p:nvSpPr>
            <p:cNvPr id="84" name=""/>
            <p:cNvSpPr/>
            <p:nvPr/>
          </p:nvSpPr>
          <p:spPr>
            <a:xfrm>
              <a:off x="3635280" y="2421000"/>
              <a:ext cx="8654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35280" y="2498760"/>
              <a:ext cx="86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211640" y="3141720"/>
            <a:ext cx="865080" cy="431640"/>
            <a:chOff x="4211640" y="3141720"/>
            <a:chExt cx="865080" cy="431640"/>
          </a:xfrm>
        </p:grpSpPr>
        <p:sp>
          <p:nvSpPr>
            <p:cNvPr id="87" name=""/>
            <p:cNvSpPr/>
            <p:nvPr/>
          </p:nvSpPr>
          <p:spPr>
            <a:xfrm>
              <a:off x="4211640" y="3141720"/>
              <a:ext cx="86508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11640" y="3219480"/>
              <a:ext cx="86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059280" y="3141720"/>
            <a:ext cx="865080" cy="431640"/>
            <a:chOff x="3059280" y="3141720"/>
            <a:chExt cx="865080" cy="431640"/>
          </a:xfrm>
        </p:grpSpPr>
        <p:sp>
          <p:nvSpPr>
            <p:cNvPr id="90" name=""/>
            <p:cNvSpPr/>
            <p:nvPr/>
          </p:nvSpPr>
          <p:spPr>
            <a:xfrm>
              <a:off x="3059280" y="3141720"/>
              <a:ext cx="86508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59280" y="3219480"/>
              <a:ext cx="86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5280" y="3860640"/>
            <a:ext cx="865440" cy="459000"/>
            <a:chOff x="3635280" y="3860640"/>
            <a:chExt cx="865440" cy="459000"/>
          </a:xfrm>
        </p:grpSpPr>
        <p:sp>
          <p:nvSpPr>
            <p:cNvPr id="93" name=""/>
            <p:cNvSpPr/>
            <p:nvPr/>
          </p:nvSpPr>
          <p:spPr>
            <a:xfrm>
              <a:off x="3635280" y="3871800"/>
              <a:ext cx="8654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35280" y="3860640"/>
              <a:ext cx="865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and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flipV="1">
            <a:off x="3492360" y="2852280"/>
            <a:ext cx="57492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4067280" y="2852280"/>
            <a:ext cx="57600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492000" y="3573360"/>
            <a:ext cx="57492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067280" y="3573360"/>
            <a:ext cx="57600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6:57:39Z</dcterms:created>
  <dc:creator>Matthew McGill</dc:creator>
  <dc:description/>
  <dc:language>en-US</dc:language>
  <cp:lastModifiedBy>Matthew McGill</cp:lastModifiedBy>
  <dcterms:modified xsi:type="dcterms:W3CDTF">2007-01-23T06:07:34Z</dcterms:modified>
  <cp:revision>3</cp:revision>
  <dc:subject/>
  <dc:title>Slide 1</dc:title>
</cp:coreProperties>
</file>