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226-9D12-467B-B576-3E8223C3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FEB5-2CBB-468B-9E03-7BD62CD9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A11E-ED4C-451B-8ACE-70FC349A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6E9-2C5D-425E-8F6A-621D2A81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576C-6D96-4D48-804A-869AA005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AAA8-5408-4967-9B18-6AB2D20F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7101-5C51-4EBA-A8A6-66F8EB60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FF2D-B447-495A-BE9F-C90501E6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6DEA-7341-4473-83D8-07ED8A5C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0F3E-9F41-497D-9D04-C2829291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BA0-6ED6-4872-8E80-E600010C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7442-9925-4A6B-BA41-70BAE9D1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8667-9890-45E7-A165-8B379DC08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000" y="1844640"/>
            <a:ext cx="4968720" cy="345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84360" y="1994040"/>
            <a:ext cx="4681440" cy="3155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627280" y="2133720"/>
            <a:ext cx="2015640" cy="1224000"/>
            <a:chOff x="2627280" y="2133720"/>
            <a:chExt cx="2015640" cy="1224000"/>
          </a:xfrm>
        </p:grpSpPr>
        <p:sp>
          <p:nvSpPr>
            <p:cNvPr id="44" name=""/>
            <p:cNvSpPr/>
            <p:nvPr/>
          </p:nvSpPr>
          <p:spPr>
            <a:xfrm>
              <a:off x="2627280" y="2133720"/>
              <a:ext cx="201564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27280" y="2133720"/>
              <a:ext cx="201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: textFrom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27280" y="2422440"/>
              <a:ext cx="20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27280" y="2422440"/>
              <a:ext cx="2015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tteranc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hat is today’s weather?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003640" y="2133720"/>
            <a:ext cx="2016000" cy="1224000"/>
            <a:chOff x="5003640" y="2133720"/>
            <a:chExt cx="2016000" cy="1224000"/>
          </a:xfrm>
        </p:grpSpPr>
        <p:sp>
          <p:nvSpPr>
            <p:cNvPr id="49" name=""/>
            <p:cNvSpPr/>
            <p:nvPr/>
          </p:nvSpPr>
          <p:spPr>
            <a:xfrm>
              <a:off x="5003640" y="2133720"/>
              <a:ext cx="201600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03640" y="213372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: textFor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03640" y="242244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03640" y="2422440"/>
              <a:ext cx="2016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tteranc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t is 26 degrees and sunny.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627280" y="3573360"/>
            <a:ext cx="2015640" cy="1224000"/>
            <a:chOff x="2627280" y="3573360"/>
            <a:chExt cx="2015640" cy="1224000"/>
          </a:xfrm>
        </p:grpSpPr>
        <p:sp>
          <p:nvSpPr>
            <p:cNvPr id="54" name=""/>
            <p:cNvSpPr/>
            <p:nvPr/>
          </p:nvSpPr>
          <p:spPr>
            <a:xfrm>
              <a:off x="2627280" y="3573360"/>
              <a:ext cx="201564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27280" y="3573360"/>
              <a:ext cx="201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: getWeatherInf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27280" y="3862080"/>
              <a:ext cx="20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27280" y="3862080"/>
              <a:ext cx="201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d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003640" y="3573360"/>
            <a:ext cx="2016000" cy="1224000"/>
            <a:chOff x="5003640" y="3573360"/>
            <a:chExt cx="2016000" cy="1224000"/>
          </a:xfrm>
        </p:grpSpPr>
        <p:sp>
          <p:nvSpPr>
            <p:cNvPr id="59" name=""/>
            <p:cNvSpPr/>
            <p:nvPr/>
          </p:nvSpPr>
          <p:spPr>
            <a:xfrm>
              <a:off x="5003640" y="3573360"/>
              <a:ext cx="201600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03640" y="357336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: weatherInf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03640" y="386208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3862080"/>
              <a:ext cx="201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di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n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772720" y="782640"/>
            <a:ext cx="1648440" cy="992520"/>
            <a:chOff x="2772720" y="782640"/>
            <a:chExt cx="1648440" cy="99252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 flipH="1">
              <a:off x="3308040" y="782640"/>
              <a:ext cx="5763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72720" y="1316160"/>
              <a:ext cx="1648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ech Recogn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147280" y="716040"/>
            <a:ext cx="1489680" cy="1057320"/>
            <a:chOff x="5147280" y="716040"/>
            <a:chExt cx="1489680" cy="1057320"/>
          </a:xfrm>
        </p:grpSpPr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 flipH="1">
              <a:off x="5443560" y="716040"/>
              <a:ext cx="8953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147280" y="1314360"/>
              <a:ext cx="1489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ech Synthe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428360" y="5408640"/>
            <a:ext cx="782640" cy="1117800"/>
            <a:chOff x="4428360" y="5408640"/>
            <a:chExt cx="782640" cy="1117800"/>
          </a:xfrm>
        </p:grpSpPr>
        <p:pic>
          <p:nvPicPr>
            <p:cNvPr id="70" name="" descr=""/>
            <p:cNvPicPr/>
            <p:nvPr/>
          </p:nvPicPr>
          <p:blipFill>
            <a:blip r:embed="rId4"/>
            <a:stretch/>
          </p:blipFill>
          <p:spPr>
            <a:xfrm>
              <a:off x="4500720" y="5408640"/>
              <a:ext cx="6397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428360" y="6067440"/>
              <a:ext cx="78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a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900720" y="3200400"/>
            <a:ext cx="1469880" cy="951120"/>
            <a:chOff x="900720" y="3200400"/>
            <a:chExt cx="1469880" cy="951120"/>
          </a:xfrm>
        </p:grpSpPr>
        <p:pic>
          <p:nvPicPr>
            <p:cNvPr id="73" name="" descr=""/>
            <p:cNvPicPr/>
            <p:nvPr/>
          </p:nvPicPr>
          <p:blipFill>
            <a:blip r:embed="rId5"/>
            <a:stretch/>
          </p:blipFill>
          <p:spPr>
            <a:xfrm>
              <a:off x="1239840" y="3200400"/>
              <a:ext cx="781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900720" y="3692520"/>
              <a:ext cx="1469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tural Langu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635280" y="1714680"/>
            <a:ext cx="0" cy="419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940360" y="1720440"/>
            <a:ext cx="0" cy="41292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050560" y="2781360"/>
            <a:ext cx="576360" cy="360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0920" y="3933720"/>
            <a:ext cx="576360" cy="358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64000" y="4797360"/>
            <a:ext cx="863640" cy="792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219640" y="4797000"/>
            <a:ext cx="792360" cy="79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050920" y="3573360"/>
            <a:ext cx="29527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0920" y="3357720"/>
            <a:ext cx="2952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635280" y="2421000"/>
            <a:ext cx="865440" cy="431640"/>
            <a:chOff x="3635280" y="2421000"/>
            <a:chExt cx="865440" cy="431640"/>
          </a:xfrm>
        </p:grpSpPr>
        <p:sp>
          <p:nvSpPr>
            <p:cNvPr id="84" name=""/>
            <p:cNvSpPr/>
            <p:nvPr/>
          </p:nvSpPr>
          <p:spPr>
            <a:xfrm>
              <a:off x="3635280" y="2421000"/>
              <a:ext cx="8654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35280" y="2498760"/>
              <a:ext cx="86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211640" y="3141720"/>
            <a:ext cx="865080" cy="431640"/>
            <a:chOff x="4211640" y="3141720"/>
            <a:chExt cx="865080" cy="431640"/>
          </a:xfrm>
        </p:grpSpPr>
        <p:sp>
          <p:nvSpPr>
            <p:cNvPr id="87" name=""/>
            <p:cNvSpPr/>
            <p:nvPr/>
          </p:nvSpPr>
          <p:spPr>
            <a:xfrm>
              <a:off x="4211640" y="3141720"/>
              <a:ext cx="86508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11640" y="3219480"/>
              <a:ext cx="86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059280" y="3141720"/>
            <a:ext cx="865080" cy="431640"/>
            <a:chOff x="3059280" y="3141720"/>
            <a:chExt cx="865080" cy="431640"/>
          </a:xfrm>
        </p:grpSpPr>
        <p:sp>
          <p:nvSpPr>
            <p:cNvPr id="90" name=""/>
            <p:cNvSpPr/>
            <p:nvPr/>
          </p:nvSpPr>
          <p:spPr>
            <a:xfrm>
              <a:off x="3059280" y="3141720"/>
              <a:ext cx="86508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59280" y="3219480"/>
              <a:ext cx="86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5280" y="3860640"/>
            <a:ext cx="865440" cy="459000"/>
            <a:chOff x="3635280" y="3860640"/>
            <a:chExt cx="865440" cy="459000"/>
          </a:xfrm>
        </p:grpSpPr>
        <p:sp>
          <p:nvSpPr>
            <p:cNvPr id="93" name=""/>
            <p:cNvSpPr/>
            <p:nvPr/>
          </p:nvSpPr>
          <p:spPr>
            <a:xfrm>
              <a:off x="3635280" y="3871800"/>
              <a:ext cx="8654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35280" y="3860640"/>
              <a:ext cx="865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and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V="1">
            <a:off x="3492360" y="2852280"/>
            <a:ext cx="57492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067280" y="2852280"/>
            <a:ext cx="57600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492000" y="3573360"/>
            <a:ext cx="57492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067280" y="3573360"/>
            <a:ext cx="57600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6:57:39Z</dcterms:created>
  <dc:creator>Matthew McGill</dc:creator>
  <dc:description/>
  <dc:language>en-US</dc:language>
  <cp:lastModifiedBy>Matthew McGill</cp:lastModifiedBy>
  <dcterms:modified xsi:type="dcterms:W3CDTF">2007-01-23T06:07:34Z</dcterms:modified>
  <cp:revision>3</cp:revision>
  <dc:subject/>
  <dc:title>Slide 1</dc:title>
</cp:coreProperties>
</file>