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1DF-5B65-4457-973F-550FC7BA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819-CB61-4161-8535-F38D4609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A86-7736-4859-92E6-7BD66D33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AA0-0343-4124-9203-EE9564CA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FAD-C6EC-460F-8F38-67EC66CA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517-2367-465E-888F-0A7F0CB5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42F-1CA5-4248-B457-82C51520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2BB-2289-4275-8C43-31F0D37C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5DD-5E06-43EF-9077-4E62F6AF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AEF-C8B3-4E05-856E-FEA11FC1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9DF-6384-4300-8672-57F17DA5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284-2727-4EBB-8276-FC7161CD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516E-E3DF-4189-99EB-8A1F3A944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844640"/>
            <a:ext cx="4968720" cy="345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994040"/>
            <a:ext cx="4681440" cy="3155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27280" y="2133720"/>
            <a:ext cx="2015640" cy="1224000"/>
            <a:chOff x="2627280" y="2133720"/>
            <a:chExt cx="2015640" cy="1224000"/>
          </a:xfrm>
        </p:grpSpPr>
        <p:sp>
          <p:nvSpPr>
            <p:cNvPr id="44" name=""/>
            <p:cNvSpPr/>
            <p:nvPr/>
          </p:nvSpPr>
          <p:spPr>
            <a:xfrm>
              <a:off x="2627280" y="2133720"/>
              <a:ext cx="201564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27280" y="2133720"/>
              <a:ext cx="20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: textFrom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27280" y="242244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27280" y="2422440"/>
              <a:ext cx="201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tteranc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hat is today’s weather?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003640" y="2133720"/>
            <a:ext cx="2016000" cy="1224000"/>
            <a:chOff x="5003640" y="2133720"/>
            <a:chExt cx="2016000" cy="1224000"/>
          </a:xfrm>
        </p:grpSpPr>
        <p:sp>
          <p:nvSpPr>
            <p:cNvPr id="49" name=""/>
            <p:cNvSpPr/>
            <p:nvPr/>
          </p:nvSpPr>
          <p:spPr>
            <a:xfrm>
              <a:off x="5003640" y="2133720"/>
              <a:ext cx="201600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03640" y="21337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: textFor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03640" y="24224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03640" y="2422440"/>
              <a:ext cx="2016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tteranc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 is 26 degrees and sunny.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627280" y="3573360"/>
            <a:ext cx="2015640" cy="1224000"/>
            <a:chOff x="2627280" y="3573360"/>
            <a:chExt cx="2015640" cy="1224000"/>
          </a:xfrm>
        </p:grpSpPr>
        <p:sp>
          <p:nvSpPr>
            <p:cNvPr id="54" name=""/>
            <p:cNvSpPr/>
            <p:nvPr/>
          </p:nvSpPr>
          <p:spPr>
            <a:xfrm>
              <a:off x="2627280" y="3573360"/>
              <a:ext cx="201564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27280" y="3573360"/>
              <a:ext cx="20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: getWeather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27280" y="386208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27280" y="3862080"/>
              <a:ext cx="201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003640" y="3573360"/>
            <a:ext cx="2016000" cy="1224000"/>
            <a:chOff x="5003640" y="3573360"/>
            <a:chExt cx="2016000" cy="1224000"/>
          </a:xfrm>
        </p:grpSpPr>
        <p:sp>
          <p:nvSpPr>
            <p:cNvPr id="59" name=""/>
            <p:cNvSpPr/>
            <p:nvPr/>
          </p:nvSpPr>
          <p:spPr>
            <a:xfrm>
              <a:off x="5003640" y="3573360"/>
              <a:ext cx="201600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3640" y="357336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: weather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3640" y="38620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3862080"/>
              <a:ext cx="201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i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772720" y="782640"/>
            <a:ext cx="1648440" cy="992520"/>
            <a:chOff x="2772720" y="782640"/>
            <a:chExt cx="1648440" cy="99252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 flipH="1">
              <a:off x="3308040" y="782640"/>
              <a:ext cx="5763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72720" y="1316160"/>
              <a:ext cx="164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ech Recogn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47280" y="716040"/>
            <a:ext cx="1489680" cy="1057320"/>
            <a:chOff x="5147280" y="716040"/>
            <a:chExt cx="1489680" cy="105732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 flipH="1">
              <a:off x="5443560" y="716040"/>
              <a:ext cx="895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147280" y="1314360"/>
              <a:ext cx="148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ech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28360" y="5408640"/>
            <a:ext cx="782640" cy="1117800"/>
            <a:chOff x="4428360" y="5408640"/>
            <a:chExt cx="782640" cy="1117800"/>
          </a:xfrm>
        </p:grpSpPr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4500720" y="5408640"/>
              <a:ext cx="639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428360" y="606744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a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900720" y="3200400"/>
            <a:ext cx="1469880" cy="951120"/>
            <a:chOff x="900720" y="3200400"/>
            <a:chExt cx="1469880" cy="951120"/>
          </a:xfrm>
        </p:grpSpPr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1239840" y="3200400"/>
              <a:ext cx="781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00720" y="3692520"/>
              <a:ext cx="1469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tural Langu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635280" y="1714680"/>
            <a:ext cx="0" cy="419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940360" y="1720440"/>
            <a:ext cx="0" cy="412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0560" y="2781360"/>
            <a:ext cx="57636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3933720"/>
            <a:ext cx="576360" cy="358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4797360"/>
            <a:ext cx="863640" cy="792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219640" y="4797000"/>
            <a:ext cx="79236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050920" y="3573360"/>
            <a:ext cx="29527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3357720"/>
            <a:ext cx="2952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635280" y="2421000"/>
            <a:ext cx="865440" cy="431640"/>
            <a:chOff x="3635280" y="2421000"/>
            <a:chExt cx="865440" cy="431640"/>
          </a:xfrm>
        </p:grpSpPr>
        <p:sp>
          <p:nvSpPr>
            <p:cNvPr id="84" name=""/>
            <p:cNvSpPr/>
            <p:nvPr/>
          </p:nvSpPr>
          <p:spPr>
            <a:xfrm>
              <a:off x="3635280" y="2421000"/>
              <a:ext cx="8654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35280" y="2498760"/>
              <a:ext cx="86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11640" y="3141720"/>
            <a:ext cx="865080" cy="431640"/>
            <a:chOff x="4211640" y="3141720"/>
            <a:chExt cx="865080" cy="431640"/>
          </a:xfrm>
        </p:grpSpPr>
        <p:sp>
          <p:nvSpPr>
            <p:cNvPr id="87" name=""/>
            <p:cNvSpPr/>
            <p:nvPr/>
          </p:nvSpPr>
          <p:spPr>
            <a:xfrm>
              <a:off x="4211640" y="3141720"/>
              <a:ext cx="8650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1640" y="321948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59280" y="3141720"/>
            <a:ext cx="865080" cy="431640"/>
            <a:chOff x="3059280" y="3141720"/>
            <a:chExt cx="865080" cy="431640"/>
          </a:xfrm>
        </p:grpSpPr>
        <p:sp>
          <p:nvSpPr>
            <p:cNvPr id="90" name=""/>
            <p:cNvSpPr/>
            <p:nvPr/>
          </p:nvSpPr>
          <p:spPr>
            <a:xfrm>
              <a:off x="3059280" y="3141720"/>
              <a:ext cx="8650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59280" y="321948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5280" y="3860640"/>
            <a:ext cx="865440" cy="459000"/>
            <a:chOff x="3635280" y="3860640"/>
            <a:chExt cx="865440" cy="459000"/>
          </a:xfrm>
        </p:grpSpPr>
        <p:sp>
          <p:nvSpPr>
            <p:cNvPr id="93" name=""/>
            <p:cNvSpPr/>
            <p:nvPr/>
          </p:nvSpPr>
          <p:spPr>
            <a:xfrm>
              <a:off x="3635280" y="3871800"/>
              <a:ext cx="8654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35280" y="3860640"/>
              <a:ext cx="865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and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V="1">
            <a:off x="3492360" y="2852280"/>
            <a:ext cx="57492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067280" y="2852280"/>
            <a:ext cx="5760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492000" y="3573360"/>
            <a:ext cx="57492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67280" y="3573360"/>
            <a:ext cx="5760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6:57:39Z</dcterms:created>
  <dc:creator>Matthew McGill</dc:creator>
  <dc:description/>
  <dc:language>en-US</dc:language>
  <cp:lastModifiedBy>Matthew McGill</cp:lastModifiedBy>
  <dcterms:modified xsi:type="dcterms:W3CDTF">2007-01-23T06:07:34Z</dcterms:modified>
  <cp:revision>3</cp:revision>
  <dc:subject/>
  <dc:title>Slide 1</dc:title>
</cp:coreProperties>
</file>